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6C2-4F4D-4E34-8D1C-5BA5B005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A538-0DEB-4927-A473-9932D928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198-D97C-4A0F-ABB4-39EE9F05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0F2-D39D-4988-B1F4-07CC907D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92802-FE3D-4885-8567-BA9AAF92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DAF58-03A5-4C3E-953C-E742F70F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AD15F-2CEB-435D-972A-511C7364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FA4E9-286E-4A0C-9502-A554CAD5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1AF49-9C19-45AB-BACC-F657BB7C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1F5E7-C8B1-49C5-A748-7A1B38C1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7022E-30CC-4FEA-86B2-2F41E5C2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F03-A97D-4F4A-A56A-67DAFE13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E4CFB-4159-4470-9CF3-260A3CBB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11903-E99F-4E9F-89B9-589B8C33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FFF58-8C47-4ECA-A7B9-37816866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55482-9659-46D3-A50A-22D06460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F1A06-2126-4020-AEE8-E7CE7E0E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526-4C12-4761-A31C-3B8E029A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AA1-45A9-4640-B425-63C34A1F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D955-DBD3-4408-8C0B-0CEF511A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98F-835A-4033-8ABA-48F65431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CDC-0E36-4976-8DE8-2B2EAF33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2288-BA85-49A5-A25B-1FC27925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E182-6437-4C24-AF0D-81159015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E2D3-DE77-4D2F-8888-F0EFD7D69F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12A6-2945-4C19-9EDF-1DBC9D4BB6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aramétrer le format des nombr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556000" y="515772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rice graphique CAS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768320" cy="3473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700360" y="2708280"/>
            <a:ext cx="5421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Faites les différentes actions au fur et à mesure de la proj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936360" cy="765360"/>
          </a:xfrm>
          <a:custGeom>
            <a:avLst/>
            <a:gdLst>
              <a:gd name="textAreaLeft" fmla="*/ 49320 w 936360"/>
              <a:gd name="textAreaRight" fmla="*/ 887040 w 936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5" y="3794"/>
                </a:moveTo>
                <a:lnTo>
                  <a:pt x="20218" y="10800"/>
                </a:lnTo>
                <a:lnTo>
                  <a:pt x="6205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1-Allumez votre calculatric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920" y="134136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’écran suivant apparaî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768320" cy="3473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59280" y="2276640"/>
            <a:ext cx="4983120" cy="2533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743200" y="515772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cez le mod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16360" y="2421000"/>
            <a:ext cx="1296720" cy="10810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924360" y="3429000"/>
            <a:ext cx="1800000" cy="1728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936360" cy="765360"/>
          </a:xfrm>
          <a:custGeom>
            <a:avLst/>
            <a:gdLst>
              <a:gd name="textAreaLeft" fmla="*/ 49320 w 936360"/>
              <a:gd name="textAreaRight" fmla="*/ 887040 w 936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5" y="3794"/>
                </a:moveTo>
                <a:lnTo>
                  <a:pt x="20218" y="10800"/>
                </a:lnTo>
                <a:lnTo>
                  <a:pt x="6205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404280"/>
            <a:ext cx="6588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Votre calculatrice est prête à effectuer des calcul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768320" cy="347328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936360" cy="765360"/>
          </a:xfrm>
          <a:custGeom>
            <a:avLst/>
            <a:gdLst>
              <a:gd name="textAreaLeft" fmla="*/ 49320 w 936360"/>
              <a:gd name="textAreaRight" fmla="*/ 887040 w 936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5" y="3794"/>
                </a:moveTo>
                <a:lnTo>
                  <a:pt x="20218" y="10800"/>
                </a:lnTo>
                <a:lnTo>
                  <a:pt x="6205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95640" y="2997360"/>
            <a:ext cx="658800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Mais il faut définir le format d’affichag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DISPLA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2- Accéder à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DISPLA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050920" y="155736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faut activer l’écran de configuration en cliquant su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768320" cy="347328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936360" cy="765360"/>
          </a:xfrm>
          <a:custGeom>
            <a:avLst/>
            <a:gdLst>
              <a:gd name="textAreaLeft" fmla="*/ 49320 w 936360"/>
              <a:gd name="textAreaRight" fmla="*/ 887040 w 936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5" y="3794"/>
                </a:moveTo>
                <a:lnTo>
                  <a:pt x="20218" y="10800"/>
                </a:lnTo>
                <a:lnTo>
                  <a:pt x="6205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564000" y="3860640"/>
            <a:ext cx="3672000" cy="1668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708360" y="3141720"/>
            <a:ext cx="216000" cy="1008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39280" y="3141720"/>
            <a:ext cx="3095640" cy="93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997360"/>
            <a:ext cx="361800" cy="11509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258920" y="2997360"/>
            <a:ext cx="5184720" cy="107928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940360" y="2349360"/>
            <a:ext cx="1008000" cy="633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059280" y="2565360"/>
            <a:ext cx="10080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000"/>
                            </p:stCondLst>
                            <p:childTnLst>
                              <p:par>
                                <p:cTn id="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2- Accéder à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DISPLA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050920" y="155736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’écran suivant apparaî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768320" cy="347328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936360" cy="765360"/>
          </a:xfrm>
          <a:custGeom>
            <a:avLst/>
            <a:gdLst>
              <a:gd name="textAreaLeft" fmla="*/ 49320 w 936360"/>
              <a:gd name="textAreaRight" fmla="*/ 887040 w 936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5" y="3794"/>
                </a:moveTo>
                <a:lnTo>
                  <a:pt x="20218" y="10800"/>
                </a:lnTo>
                <a:lnTo>
                  <a:pt x="6205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3600720" cy="3297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003640" y="3716280"/>
            <a:ext cx="1225800" cy="503280"/>
          </a:xfrm>
          <a:prstGeom prst="ellipse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40000" y="2781360"/>
            <a:ext cx="216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Times New Roman"/>
              </a:rPr>
              <a:t>Pour faire apparaîtr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ISPLAY</a:t>
            </a:r>
            <a:r>
              <a:rPr b="1" lang="en-US" sz="2400" spc="-1" strike="noStrike">
                <a:solidFill>
                  <a:srgbClr val="ff99ff"/>
                </a:solidFill>
                <a:latin typeface="Times New Roman"/>
              </a:rPr>
              <a:t>, utilisez les flèches du pavé directio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692360" y="4220640"/>
            <a:ext cx="1295280" cy="792360"/>
          </a:xfrm>
          <a:prstGeom prst="line">
            <a:avLst/>
          </a:prstGeom>
          <a:ln w="5724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3- Paramétrer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DISPLA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23640" y="1341360"/>
            <a:ext cx="8569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ivant l’activité que vous avez à faire, vous sélectionnerez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768320" cy="3473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003640" y="3716280"/>
            <a:ext cx="1225800" cy="503280"/>
          </a:xfrm>
          <a:prstGeom prst="ellipse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2205000"/>
            <a:ext cx="66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I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cc"/>
                </a:solidFill>
                <a:latin typeface="Times New Roman"/>
              </a:rPr>
              <a:t>pour définir le nombre de chiffre après la virgule (arrond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3429000"/>
            <a:ext cx="66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pour définir l’écriture scientifique d’un nomb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4581360"/>
            <a:ext cx="66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our écrire un nombre en notation ingéni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740720" y="5589720"/>
            <a:ext cx="1008000" cy="100800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20:23:13Z</dcterms:created>
  <dc:creator>LUCOTTE-LE VISAGE Gwenaëlle</dc:creator>
  <dc:description/>
  <dc:language>en-US</dc:language>
  <cp:lastModifiedBy>LUCOTTE-LE VISAGE Gwenaëlle</cp:lastModifiedBy>
  <dcterms:modified xsi:type="dcterms:W3CDTF">2004-11-15T21:50:43Z</dcterms:modified>
  <cp:revision>10</cp:revision>
  <dc:subject/>
  <dc:title>Paramétrer le format des nombres</dc:title>
</cp:coreProperties>
</file>