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C40-7BE7-47A2-ADCB-B0039BE2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DDE-A064-471E-B30E-99C08851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20C-5B13-4060-9A41-A0636475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760-0F9F-4149-8C20-C48C408D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C6FF-AAC9-4A6E-B93D-7FE991DA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79B8-6333-49AC-9ADB-0827B4C3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559C-8455-4742-A351-016924FA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A662-0D70-43D7-9D68-38261725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9A53-CBF0-4CD4-B76C-615CEE79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2110-C6C0-441B-BFCD-B203C67B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F0FD-7683-47CC-9239-CE8FCCB3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637-53A7-4001-B580-2C7E9B3A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6421-B860-464A-91BE-AE1DF0D6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4F86-8167-40D7-92A3-145C4B5C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D2A9-A082-44E6-A839-E1BE6BF9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21E9-AAF2-4887-B331-D278DA34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4FBE-0BEB-45DC-B93A-A6753E08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E92-F45B-42C1-8031-BC670E8A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C83-D275-4C3E-8DB3-407AD83B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EBC-CD43-4F72-9B69-EE54788E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A3E-DA8E-4EDA-AA36-384800D9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B73-6706-41D1-88BE-EB91B043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8C3-CB8B-481C-9994-18C1A723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B5F-95C9-42E9-90AE-58B32865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70E0-AE29-4E7A-920D-89A189BA7974}" type="datetime">
              <a:rPr b="0" lang="fr-FR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A20D-B8A2-4719-84FF-71EF5DEA714D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6697-D779-46C4-87DC-8C7163ACE030}" type="datetime">
              <a:rPr b="0" lang="fr-FR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5C8A-4610-46D7-80E8-4E8563E186C2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2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867280" y="2097000"/>
            <a:ext cx="2262240" cy="4465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25000"/>
            <a:ext cx="7543800" cy="15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ffffcc"/>
                </a:solidFill>
                <a:latin typeface="Arial Narrow"/>
              </a:rPr>
              <a:t>Tracer un graphique avec la</a:t>
            </a:r>
            <a:br>
              <a:rPr sz="4500"/>
            </a:br>
            <a:r>
              <a:rPr b="1" lang="fr-FR" sz="4500" spc="-1" strike="noStrike">
                <a:solidFill>
                  <a:srgbClr val="ffffcc"/>
                </a:solidFill>
                <a:latin typeface="Arial Narrow"/>
              </a:rPr>
              <a:t> calculatrice graphique</a:t>
            </a:r>
            <a:endParaRPr b="1" lang="en-US" sz="45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19280" y="2133720"/>
            <a:ext cx="2271960" cy="446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8320" y="3284640"/>
            <a:ext cx="84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66"/>
                </a:solidFill>
                <a:latin typeface="Times New Roman"/>
              </a:rPr>
              <a:t>Cliquez sur le modèle de votre calculatr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AAA8-8FAC-4715-AF7E-CB348C6C61F0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cc"/>
                </a:solidFill>
                <a:latin typeface="Arial Narrow"/>
              </a:rPr>
              <a:t>Affichage</a:t>
            </a:r>
            <a:endParaRPr b="1" lang="en-US" sz="8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303640" y="2276280"/>
            <a:ext cx="4248000" cy="82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électionnez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le </a:t>
            </a:r>
            <a:r>
              <a:rPr b="0" lang="fr-FR" sz="2400" spc="-1" strike="noStrike">
                <a:solidFill>
                  <a:srgbClr val="ff99ff"/>
                </a:solidFill>
                <a:latin typeface="Arial"/>
              </a:rPr>
              <a:t>SETUP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 cliquant su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1574640" cy="3095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87280" y="1592280"/>
            <a:ext cx="609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0066"/>
                </a:solidFill>
                <a:uFillTx/>
                <a:latin typeface="Arial"/>
              </a:rPr>
              <a:t>Le repère ne s’affiche 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624720" y="2276640"/>
            <a:ext cx="934920" cy="56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740720" y="2133720"/>
            <a:ext cx="1116000" cy="825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92360" y="3573360"/>
            <a:ext cx="3240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écran suivant apparaî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6443640" y="2997360"/>
            <a:ext cx="2413080" cy="2209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808360" y="4797360"/>
            <a:ext cx="3564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râce au pavé directionnel, recherchez </a:t>
            </a:r>
            <a:r>
              <a:rPr b="0" lang="fr-FR" sz="2800" spc="-1" strike="noStrike">
                <a:solidFill>
                  <a:srgbClr val="ff99ff"/>
                </a:solidFill>
                <a:latin typeface="Arial"/>
              </a:rPr>
              <a:t>Axe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puis </a:t>
            </a:r>
            <a:r>
              <a:rPr b="0" lang="fr-FR" sz="2800" spc="-1" strike="noStrike">
                <a:solidFill>
                  <a:srgbClr val="ff99ff"/>
                </a:solidFill>
                <a:latin typeface="Arial"/>
              </a:rPr>
              <a:t>On </a:t>
            </a: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(F1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43640" y="5624640"/>
            <a:ext cx="1152720" cy="973080"/>
          </a:xfrm>
          <a:custGeom>
            <a:avLst/>
            <a:gdLst>
              <a:gd name="textAreaLeft" fmla="*/ 63000 w 1152720"/>
              <a:gd name="textAreaRight" fmla="*/ 1089720 w 1152720"/>
              <a:gd name="textAreaTop" fmla="*/ 63000 h 973080"/>
              <a:gd name="textAreaBottom" fmla="*/ 910080 h 973080"/>
            </a:gdLst>
            <a:ahLst/>
            <a:rect l="textAreaLeft" t="textAreaTop" r="textAreaRight" b="textAreaBottom"/>
            <a:pathLst>
              <a:path w="25586" h="21600">
                <a:moveTo>
                  <a:pt x="0" y="0"/>
                </a:moveTo>
                <a:lnTo>
                  <a:pt x="25586" y="0"/>
                </a:lnTo>
                <a:lnTo>
                  <a:pt x="25586" y="21600"/>
                </a:lnTo>
                <a:lnTo>
                  <a:pt x="0" y="21600"/>
                </a:lnTo>
                <a:close/>
              </a:path>
              <a:path fill="lightenLess" w="25586" h="21600">
                <a:moveTo>
                  <a:pt x="0" y="0"/>
                </a:moveTo>
                <a:lnTo>
                  <a:pt x="25586" y="0"/>
                </a:lnTo>
                <a:lnTo>
                  <a:pt x="24186" y="1400"/>
                </a:lnTo>
                <a:lnTo>
                  <a:pt x="1400" y="1400"/>
                </a:lnTo>
                <a:close/>
              </a:path>
              <a:path fill="darken" w="25586" h="21600">
                <a:moveTo>
                  <a:pt x="25586" y="0"/>
                </a:moveTo>
                <a:lnTo>
                  <a:pt x="25586" y="21600"/>
                </a:lnTo>
                <a:lnTo>
                  <a:pt x="24186" y="20200"/>
                </a:lnTo>
                <a:lnTo>
                  <a:pt x="24186" y="1400"/>
                </a:lnTo>
                <a:close/>
              </a:path>
              <a:path fill="darkenLess" w="25586" h="21600">
                <a:moveTo>
                  <a:pt x="25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6" y="20200"/>
                </a:lnTo>
                <a:close/>
              </a:path>
              <a:path fill="lighten" w="25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6" h="21600">
                <a:moveTo>
                  <a:pt x="12793" y="3837"/>
                </a:moveTo>
                <a:lnTo>
                  <a:pt x="15369" y="6448"/>
                </a:lnTo>
                <a:lnTo>
                  <a:pt x="15369" y="4707"/>
                </a:lnTo>
                <a:lnTo>
                  <a:pt x="17145" y="4707"/>
                </a:lnTo>
                <a:lnTo>
                  <a:pt x="17145" y="8224"/>
                </a:lnTo>
                <a:lnTo>
                  <a:pt x="19756" y="10800"/>
                </a:lnTo>
                <a:lnTo>
                  <a:pt x="18102" y="10800"/>
                </a:lnTo>
                <a:lnTo>
                  <a:pt x="18102" y="17989"/>
                </a:lnTo>
                <a:lnTo>
                  <a:pt x="7484" y="17989"/>
                </a:lnTo>
                <a:lnTo>
                  <a:pt x="7484" y="10800"/>
                </a:lnTo>
                <a:lnTo>
                  <a:pt x="5830" y="10800"/>
                </a:lnTo>
                <a:close/>
              </a:path>
              <a:path fill="darkenLess" w="25586" h="21600">
                <a:moveTo>
                  <a:pt x="15369" y="6448"/>
                </a:moveTo>
                <a:lnTo>
                  <a:pt x="15369" y="4707"/>
                </a:lnTo>
                <a:lnTo>
                  <a:pt x="17145" y="4707"/>
                </a:lnTo>
                <a:lnTo>
                  <a:pt x="17145" y="8224"/>
                </a:lnTo>
                <a:close/>
              </a:path>
              <a:path fill="darkenLess" w="25586" h="21600">
                <a:moveTo>
                  <a:pt x="11870" y="14299"/>
                </a:moveTo>
                <a:lnTo>
                  <a:pt x="13716" y="14299"/>
                </a:lnTo>
                <a:lnTo>
                  <a:pt x="13716" y="17989"/>
                </a:lnTo>
                <a:lnTo>
                  <a:pt x="18102" y="17989"/>
                </a:lnTo>
                <a:lnTo>
                  <a:pt x="18102" y="10800"/>
                </a:lnTo>
                <a:lnTo>
                  <a:pt x="7484" y="10800"/>
                </a:lnTo>
                <a:lnTo>
                  <a:pt x="7484" y="17989"/>
                </a:lnTo>
                <a:lnTo>
                  <a:pt x="11870" y="1798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6EE-BD28-49FF-A0EE-5421F1D833AE}" type="slidenum">
              <a:t>10</a:t>
            </a:fld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cc"/>
                </a:solidFill>
                <a:latin typeface="Arial Narrow"/>
              </a:rPr>
              <a:t>Affichage</a:t>
            </a:r>
            <a:endParaRPr b="1" lang="en-US" sz="8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87280" y="2421000"/>
            <a:ext cx="4500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électionnez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99ff"/>
                </a:solidFill>
                <a:latin typeface="Arial"/>
              </a:rPr>
              <a:t>V-WIND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 cliquant su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1574640" cy="3095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87280" y="159228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0066"/>
                </a:solidFill>
                <a:uFillTx/>
                <a:latin typeface="Arial"/>
              </a:rPr>
              <a:t>Le graphe apparaît partiellement ou pas du t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56360" y="2529000"/>
            <a:ext cx="934920" cy="56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627280" y="3968640"/>
            <a:ext cx="3240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’écran suivant apparaî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5013360"/>
            <a:ext cx="4032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odifiez les valeurs</a:t>
            </a:r>
            <a:r>
              <a:rPr b="0" lang="fr-FR" sz="2400" spc="-1" strike="noStrike">
                <a:solidFill>
                  <a:srgbClr val="ff99ff"/>
                </a:solidFill>
                <a:latin typeface="Arial"/>
              </a:rPr>
              <a:t> Xmin, Xmax, scale, Ymin, Ymax, scal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en fonction des valeurs de votre tabl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286680" y="342900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524720" y="2421000"/>
            <a:ext cx="1116000" cy="691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43640" y="5624640"/>
            <a:ext cx="1152720" cy="973080"/>
          </a:xfrm>
          <a:custGeom>
            <a:avLst/>
            <a:gdLst>
              <a:gd name="textAreaLeft" fmla="*/ 63000 w 1152720"/>
              <a:gd name="textAreaRight" fmla="*/ 1089720 w 1152720"/>
              <a:gd name="textAreaTop" fmla="*/ 63000 h 973080"/>
              <a:gd name="textAreaBottom" fmla="*/ 910080 h 973080"/>
            </a:gdLst>
            <a:ahLst/>
            <a:rect l="textAreaLeft" t="textAreaTop" r="textAreaRight" b="textAreaBottom"/>
            <a:pathLst>
              <a:path w="25586" h="21600">
                <a:moveTo>
                  <a:pt x="0" y="0"/>
                </a:moveTo>
                <a:lnTo>
                  <a:pt x="25586" y="0"/>
                </a:lnTo>
                <a:lnTo>
                  <a:pt x="25586" y="21600"/>
                </a:lnTo>
                <a:lnTo>
                  <a:pt x="0" y="21600"/>
                </a:lnTo>
                <a:close/>
              </a:path>
              <a:path fill="lightenLess" w="25586" h="21600">
                <a:moveTo>
                  <a:pt x="0" y="0"/>
                </a:moveTo>
                <a:lnTo>
                  <a:pt x="25586" y="0"/>
                </a:lnTo>
                <a:lnTo>
                  <a:pt x="24186" y="1400"/>
                </a:lnTo>
                <a:lnTo>
                  <a:pt x="1400" y="1400"/>
                </a:lnTo>
                <a:close/>
              </a:path>
              <a:path fill="darken" w="25586" h="21600">
                <a:moveTo>
                  <a:pt x="25586" y="0"/>
                </a:moveTo>
                <a:lnTo>
                  <a:pt x="25586" y="21600"/>
                </a:lnTo>
                <a:lnTo>
                  <a:pt x="24186" y="20200"/>
                </a:lnTo>
                <a:lnTo>
                  <a:pt x="24186" y="1400"/>
                </a:lnTo>
                <a:close/>
              </a:path>
              <a:path fill="darkenLess" w="25586" h="21600">
                <a:moveTo>
                  <a:pt x="25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6" y="20200"/>
                </a:lnTo>
                <a:close/>
              </a:path>
              <a:path fill="lighten" w="25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6" h="21600">
                <a:moveTo>
                  <a:pt x="12793" y="3837"/>
                </a:moveTo>
                <a:lnTo>
                  <a:pt x="15369" y="6448"/>
                </a:lnTo>
                <a:lnTo>
                  <a:pt x="15369" y="4707"/>
                </a:lnTo>
                <a:lnTo>
                  <a:pt x="17145" y="4707"/>
                </a:lnTo>
                <a:lnTo>
                  <a:pt x="17145" y="8224"/>
                </a:lnTo>
                <a:lnTo>
                  <a:pt x="19756" y="10800"/>
                </a:lnTo>
                <a:lnTo>
                  <a:pt x="18102" y="10800"/>
                </a:lnTo>
                <a:lnTo>
                  <a:pt x="18102" y="17989"/>
                </a:lnTo>
                <a:lnTo>
                  <a:pt x="7484" y="17989"/>
                </a:lnTo>
                <a:lnTo>
                  <a:pt x="7484" y="10800"/>
                </a:lnTo>
                <a:lnTo>
                  <a:pt x="5830" y="10800"/>
                </a:lnTo>
                <a:close/>
              </a:path>
              <a:path fill="darkenLess" w="25586" h="21600">
                <a:moveTo>
                  <a:pt x="15369" y="6448"/>
                </a:moveTo>
                <a:lnTo>
                  <a:pt x="15369" y="4707"/>
                </a:lnTo>
                <a:lnTo>
                  <a:pt x="17145" y="4707"/>
                </a:lnTo>
                <a:lnTo>
                  <a:pt x="17145" y="8224"/>
                </a:lnTo>
                <a:close/>
              </a:path>
              <a:path fill="darkenLess" w="25586" h="21600">
                <a:moveTo>
                  <a:pt x="11870" y="14299"/>
                </a:moveTo>
                <a:lnTo>
                  <a:pt x="13716" y="14299"/>
                </a:lnTo>
                <a:lnTo>
                  <a:pt x="13716" y="17989"/>
                </a:lnTo>
                <a:lnTo>
                  <a:pt x="18102" y="17989"/>
                </a:lnTo>
                <a:lnTo>
                  <a:pt x="18102" y="10800"/>
                </a:lnTo>
                <a:lnTo>
                  <a:pt x="7484" y="10800"/>
                </a:lnTo>
                <a:lnTo>
                  <a:pt x="7484" y="17989"/>
                </a:lnTo>
                <a:lnTo>
                  <a:pt x="11870" y="1798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AD4-F585-4901-80E6-775F8742E652}" type="slidenum">
              <a:t>11</a:t>
            </a:fld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cc"/>
                </a:solidFill>
                <a:latin typeface="Arial Narrow"/>
              </a:rPr>
              <a:t>Affichage</a:t>
            </a:r>
            <a:endParaRPr b="1" lang="en-US" sz="8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79280" y="2241360"/>
            <a:ext cx="3637080" cy="15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ctr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électionner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 command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99ff"/>
                </a:solidFill>
                <a:latin typeface="Arial"/>
              </a:rPr>
              <a:t>ZO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 cliquant su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1574640" cy="3095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87280" y="159228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0066"/>
                </a:solidFill>
                <a:uFillTx/>
                <a:latin typeface="Arial"/>
              </a:rPr>
              <a:t>Le graphe est trop petit ou trop gran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551640" y="2529000"/>
            <a:ext cx="934920" cy="569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627280" y="3968640"/>
            <a:ext cx="3240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’écran suivant apparaî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5013360"/>
            <a:ext cx="26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électionnez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34920" y="5913360"/>
            <a:ext cx="755640" cy="684360"/>
          </a:xfrm>
          <a:custGeom>
            <a:avLst/>
            <a:gdLst>
              <a:gd name="textAreaLeft" fmla="*/ 44280 w 755640"/>
              <a:gd name="textAreaRight" fmla="*/ 711360 w 755640"/>
              <a:gd name="textAreaTop" fmla="*/ 44280 h 684360"/>
              <a:gd name="textAreaBottom" fmla="*/ 640080 h 684360"/>
            </a:gdLst>
            <a:ahLst/>
            <a:rect l="textAreaLeft" t="textAreaTop" r="textAreaRight" b="textAreaBottom"/>
            <a:pathLst>
              <a:path w="23849" h="21600">
                <a:moveTo>
                  <a:pt x="0" y="0"/>
                </a:moveTo>
                <a:lnTo>
                  <a:pt x="23849" y="0"/>
                </a:lnTo>
                <a:lnTo>
                  <a:pt x="23849" y="21600"/>
                </a:lnTo>
                <a:lnTo>
                  <a:pt x="0" y="21600"/>
                </a:lnTo>
                <a:close/>
              </a:path>
              <a:path fill="lightenLess" w="23849" h="21600">
                <a:moveTo>
                  <a:pt x="0" y="0"/>
                </a:moveTo>
                <a:lnTo>
                  <a:pt x="23849" y="0"/>
                </a:lnTo>
                <a:lnTo>
                  <a:pt x="22449" y="1400"/>
                </a:lnTo>
                <a:lnTo>
                  <a:pt x="1400" y="1400"/>
                </a:lnTo>
                <a:close/>
              </a:path>
              <a:path fill="darken" w="23849" h="21600">
                <a:moveTo>
                  <a:pt x="23849" y="0"/>
                </a:moveTo>
                <a:lnTo>
                  <a:pt x="23849" y="21600"/>
                </a:lnTo>
                <a:lnTo>
                  <a:pt x="22449" y="20200"/>
                </a:lnTo>
                <a:lnTo>
                  <a:pt x="22449" y="1400"/>
                </a:lnTo>
                <a:close/>
              </a:path>
              <a:path fill="darkenLess" w="23849" h="21600">
                <a:moveTo>
                  <a:pt x="23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49" y="20200"/>
                </a:lnTo>
                <a:close/>
              </a:path>
              <a:path fill="lighten" w="23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49" h="21600">
                <a:moveTo>
                  <a:pt x="11924" y="3837"/>
                </a:moveTo>
                <a:lnTo>
                  <a:pt x="14501" y="6448"/>
                </a:lnTo>
                <a:lnTo>
                  <a:pt x="14501" y="4707"/>
                </a:lnTo>
                <a:lnTo>
                  <a:pt x="16276" y="4707"/>
                </a:lnTo>
                <a:lnTo>
                  <a:pt x="16276" y="8224"/>
                </a:lnTo>
                <a:lnTo>
                  <a:pt x="18887" y="10800"/>
                </a:lnTo>
                <a:lnTo>
                  <a:pt x="17234" y="10800"/>
                </a:lnTo>
                <a:lnTo>
                  <a:pt x="17234" y="17989"/>
                </a:lnTo>
                <a:lnTo>
                  <a:pt x="6615" y="17989"/>
                </a:lnTo>
                <a:lnTo>
                  <a:pt x="6615" y="10800"/>
                </a:lnTo>
                <a:lnTo>
                  <a:pt x="4961" y="10800"/>
                </a:lnTo>
                <a:close/>
              </a:path>
              <a:path fill="darkenLess" w="23849" h="21600">
                <a:moveTo>
                  <a:pt x="14501" y="6448"/>
                </a:moveTo>
                <a:lnTo>
                  <a:pt x="14501" y="4707"/>
                </a:lnTo>
                <a:lnTo>
                  <a:pt x="16276" y="4707"/>
                </a:lnTo>
                <a:lnTo>
                  <a:pt x="16276" y="8224"/>
                </a:lnTo>
                <a:close/>
              </a:path>
              <a:path fill="darkenLess" w="23849" h="21600">
                <a:moveTo>
                  <a:pt x="11002" y="14299"/>
                </a:moveTo>
                <a:lnTo>
                  <a:pt x="12847" y="14299"/>
                </a:lnTo>
                <a:lnTo>
                  <a:pt x="12847" y="17989"/>
                </a:lnTo>
                <a:lnTo>
                  <a:pt x="17234" y="17989"/>
                </a:lnTo>
                <a:lnTo>
                  <a:pt x="17234" y="10800"/>
                </a:lnTo>
                <a:lnTo>
                  <a:pt x="6615" y="10800"/>
                </a:lnTo>
                <a:lnTo>
                  <a:pt x="6615" y="17989"/>
                </a:lnTo>
                <a:lnTo>
                  <a:pt x="11002" y="1798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632720" y="2384280"/>
            <a:ext cx="934920" cy="7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5796000" y="3141720"/>
          <a:ext cx="3144960" cy="208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3141720"/>
                    <a:ext cx="3144960" cy="20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426840" y="5451480"/>
            <a:ext cx="52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66"/>
                </a:solidFill>
                <a:latin typeface="Times New Roman"/>
              </a:rPr>
              <a:t>In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pour augmenter la taille (Zoom ava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2880" y="5950080"/>
            <a:ext cx="55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Times New Roman"/>
              </a:rPr>
              <a:t>Ou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pour diminuer la taille (Zoom aariè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887640" y="5192640"/>
            <a:ext cx="3708720" cy="4320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32720" y="4905360"/>
            <a:ext cx="503280" cy="4683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103640" y="5336640"/>
            <a:ext cx="4213440" cy="792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52000" y="4869000"/>
            <a:ext cx="541080" cy="504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D13-28D0-4FD0-B046-8A814573AF28}" type="slidenum">
              <a:t>12</a:t>
            </a:fld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000"/>
                            </p:stCondLst>
                            <p:childTnLst>
                              <p:par>
                                <p:cTn id="3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4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0"/>
                            </p:stCondLst>
                            <p:childTnLst>
                              <p:par>
                                <p:cTn id="4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2265480" cy="49532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0" y="188640"/>
            <a:ext cx="4176720" cy="14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500" spc="-1" strike="noStrike">
                <a:solidFill>
                  <a:srgbClr val="ffffcc"/>
                </a:solidFill>
                <a:latin typeface="Arial Narrow"/>
              </a:rPr>
              <a:t>Allumez votre calculatrice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241720"/>
            <a:ext cx="36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cc"/>
                </a:solidFill>
                <a:latin typeface="Times New Roman"/>
              </a:rPr>
              <a:t>L’écran suivant apparaît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1640" y="1484280"/>
            <a:ext cx="2197080" cy="17287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8360" y="2744640"/>
            <a:ext cx="1303200" cy="2949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V="1">
            <a:off x="4284720" y="1952280"/>
            <a:ext cx="2627280" cy="3205080"/>
          </a:xfrm>
          <a:prstGeom prst="line">
            <a:avLst/>
          </a:prstGeom>
          <a:ln w="76320">
            <a:solidFill>
              <a:srgbClr val="ff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44000" y="512136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Times New Roman"/>
              </a:rPr>
              <a:t>Un curseur clign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BE79-BB5B-406D-BCB5-B2B924607E32}" type="slidenum">
              <a:t>13</a:t>
            </a:fld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7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500"/>
                            </p:stCondLst>
                            <p:childTnLst>
                              <p:par>
                                <p:cTn id="4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8000" y="765000"/>
            <a:ext cx="75438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cc"/>
                </a:solidFill>
                <a:latin typeface="Arial Narrow"/>
              </a:rPr>
              <a:t>Saisissez la fonction dont vous désirez obtenir le graphe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2744640"/>
            <a:ext cx="1303200" cy="2949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268360" y="1916280"/>
            <a:ext cx="24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00"/>
                </a:solidFill>
                <a:latin typeface="Times New Roman"/>
              </a:rPr>
              <a:t>Cliquez su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96000" y="1881360"/>
            <a:ext cx="1188720" cy="734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H="1">
            <a:off x="719280" y="2600280"/>
            <a:ext cx="4176720" cy="126036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43280" y="288936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00"/>
                </a:solidFill>
                <a:latin typeface="Times New Roman"/>
              </a:rPr>
              <a:t>L’écran suivant apparaît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780000" y="3753000"/>
            <a:ext cx="4392360" cy="27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A896-8581-48E0-952A-8886B8AF42BB}" type="slidenum">
              <a:t>14</a:t>
            </a:fld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3640" y="907920"/>
            <a:ext cx="75438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500" spc="-1" strike="noStrike">
                <a:solidFill>
                  <a:srgbClr val="ffffcc"/>
                </a:solidFill>
                <a:latin typeface="Arial Narrow"/>
              </a:rPr>
              <a:t>Étudions un exemple: </a:t>
            </a:r>
            <a:br>
              <a:rPr sz="5500"/>
            </a:br>
            <a:r>
              <a:rPr b="1" lang="fr-FR" sz="5500" spc="-1" strike="noStrike">
                <a:solidFill>
                  <a:srgbClr val="ffffcc"/>
                </a:solidFill>
                <a:latin typeface="Arial Narrow"/>
              </a:rPr>
              <a:t>f(x) = x²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2592360" y="245736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00"/>
                </a:solidFill>
                <a:latin typeface="Times New Roman"/>
              </a:rPr>
              <a:t>Une fois l’expression saisie, il reste à valider en appuyant sur la touche</a:t>
            </a:r>
            <a:r>
              <a:rPr b="0" lang="fr-FR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0066"/>
                </a:solidFill>
                <a:latin typeface="Times New Roman"/>
              </a:rPr>
              <a:t>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7640" y="3537000"/>
            <a:ext cx="1727280" cy="792000"/>
          </a:xfrm>
          <a:prstGeom prst="ellipse">
            <a:avLst/>
          </a:pr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2360" y="188136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00"/>
                </a:solidFill>
                <a:latin typeface="Times New Roman"/>
              </a:rPr>
              <a:t>Saisissez l’expression de f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8360" y="2744640"/>
            <a:ext cx="1303200" cy="2949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92720" y="4329000"/>
            <a:ext cx="3562200" cy="2244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>
            <a:off x="1655640" y="4184640"/>
            <a:ext cx="2376720" cy="108108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47840" y="4611600"/>
            <a:ext cx="189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imes New Roman"/>
              </a:rPr>
              <a:t>L’écran suivant apparaî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6726-834B-437A-A75C-38B9229E9020}" type="slidenum">
              <a:t>15</a:t>
            </a:fld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0"/>
                            </p:stCondLst>
                            <p:childTnLst>
                              <p:par>
                                <p:cTn id="5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7000"/>
                            </p:stCondLst>
                            <p:childTnLst>
                              <p:par>
                                <p:cTn id="5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900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8360" y="2744640"/>
            <a:ext cx="1303200" cy="29498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8000" y="1052640"/>
            <a:ext cx="754380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500" spc="-1" strike="noStrike">
                <a:solidFill>
                  <a:srgbClr val="ffffcc"/>
                </a:solidFill>
                <a:latin typeface="Arial Narrow"/>
              </a:rPr>
              <a:t>Sélectionnez « </a:t>
            </a:r>
            <a:r>
              <a:rPr b="1" lang="fr-FR" sz="5500" spc="-1" strike="noStrike">
                <a:solidFill>
                  <a:srgbClr val="ff0066"/>
                </a:solidFill>
                <a:latin typeface="Arial Narrow"/>
              </a:rPr>
              <a:t>GRAPH</a:t>
            </a:r>
            <a:r>
              <a:rPr b="1" lang="fr-FR" sz="5500" spc="-1" strike="noStrike">
                <a:solidFill>
                  <a:srgbClr val="ffffcc"/>
                </a:solidFill>
                <a:latin typeface="Arial Narrow"/>
              </a:rPr>
              <a:t> » </a:t>
            </a:r>
            <a:br>
              <a:rPr sz="5500"/>
            </a:b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348000" y="3213000"/>
            <a:ext cx="5078520" cy="20336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804000" y="1484280"/>
            <a:ext cx="900000" cy="1981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59640" y="3392640"/>
            <a:ext cx="828720" cy="433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D34B-CD23-470B-9756-B6CF243C1381}" type="slidenum">
              <a:t>16</a:t>
            </a:fld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4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7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8000" y="873000"/>
            <a:ext cx="75438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500" spc="-1" strike="noStrike">
                <a:solidFill>
                  <a:srgbClr val="ffffcc"/>
                </a:solidFill>
                <a:latin typeface="Arial Narrow"/>
              </a:rPr>
              <a:t>L’écran suivant s’affiche: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2744640"/>
            <a:ext cx="1303200" cy="294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3995640" y="2023920"/>
          <a:ext cx="3567240" cy="368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2023920"/>
                    <a:ext cx="3567240" cy="36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5A84-D2B8-4EE6-9D8F-51A2E894C1AF}" type="slidenum">
              <a:t>17</a:t>
            </a:fld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"/>
                            </p:stCondLst>
                            <p:childTnLst>
                              <p:par>
                                <p:cTn id="5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873000"/>
            <a:ext cx="840888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cc"/>
                </a:solidFill>
                <a:latin typeface="Arial Narrow"/>
              </a:rPr>
              <a:t>Il est nécessaire de paramétrer l’écran pour obtenir un meilleur aperçu du tracé.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68360" y="2744640"/>
            <a:ext cx="1303200" cy="2949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744360" y="1881360"/>
            <a:ext cx="349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ff00"/>
                </a:solidFill>
                <a:uFillTx/>
                <a:latin typeface="Times New Roman"/>
              </a:rPr>
              <a:t>Deux méthode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0936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99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281628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99ff"/>
                </a:solidFill>
                <a:latin typeface="Times New Roman"/>
              </a:rPr>
              <a:t>Utiliser la fonction « WINDOW 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36360" y="4721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3640" y="468936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Utiliser la fonction « ZOOM 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64000" y="3716280"/>
            <a:ext cx="205272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00"/>
                </a:solidFill>
                <a:latin typeface="Times New Roman"/>
              </a:rPr>
              <a:t>Cliquez ici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0720" y="5553000"/>
            <a:ext cx="205236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00"/>
                </a:solidFill>
                <a:latin typeface="Times New Roman"/>
              </a:rPr>
              <a:t>Cliquez ici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endshow"/>
          </p:cNvPr>
          <p:cNvSpPr/>
          <p:nvPr/>
        </p:nvSpPr>
        <p:spPr>
          <a:xfrm>
            <a:off x="7380360" y="5624640"/>
            <a:ext cx="1152360" cy="1008000"/>
          </a:xfrm>
          <a:custGeom>
            <a:avLst/>
            <a:gdLst>
              <a:gd name="textAreaLeft" fmla="*/ 65160 w 1152360"/>
              <a:gd name="textAreaRight" fmla="*/ 1087200 w 1152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837"/>
                </a:moveTo>
                <a:lnTo>
                  <a:pt x="14922" y="6448"/>
                </a:ln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lnTo>
                  <a:pt x="19309" y="10800"/>
                </a:lnTo>
                <a:lnTo>
                  <a:pt x="17655" y="10800"/>
                </a:lnTo>
                <a:lnTo>
                  <a:pt x="17655" y="17989"/>
                </a:lnTo>
                <a:lnTo>
                  <a:pt x="7037" y="17989"/>
                </a:lnTo>
                <a:lnTo>
                  <a:pt x="7037" y="10800"/>
                </a:lnTo>
                <a:lnTo>
                  <a:pt x="5383" y="10800"/>
                </a:lnTo>
                <a:close/>
              </a:path>
              <a:path fill="darkenLess" w="24692" h="21600">
                <a:moveTo>
                  <a:pt x="14922" y="6448"/>
                </a:move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close/>
              </a:path>
              <a:path fill="darkenLess" w="24692" h="21600">
                <a:moveTo>
                  <a:pt x="11424" y="14299"/>
                </a:moveTo>
                <a:lnTo>
                  <a:pt x="13269" y="14299"/>
                </a:lnTo>
                <a:lnTo>
                  <a:pt x="13269" y="17989"/>
                </a:lnTo>
                <a:lnTo>
                  <a:pt x="17655" y="17989"/>
                </a:lnTo>
                <a:lnTo>
                  <a:pt x="17655" y="10800"/>
                </a:lnTo>
                <a:lnTo>
                  <a:pt x="7037" y="10800"/>
                </a:lnTo>
                <a:lnTo>
                  <a:pt x="7037" y="17989"/>
                </a:lnTo>
                <a:lnTo>
                  <a:pt x="11424" y="1798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5913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1296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933" h="21600">
                <a:moveTo>
                  <a:pt x="1296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933" h="21600">
                <a:moveTo>
                  <a:pt x="10390" y="8224"/>
                </a:moveTo>
                <a:lnTo>
                  <a:pt x="14255" y="8224"/>
                </a:lnTo>
                <a:lnTo>
                  <a:pt x="14255" y="15221"/>
                </a:lnTo>
                <a:lnTo>
                  <a:pt x="15543" y="15221"/>
                </a:lnTo>
                <a:lnTo>
                  <a:pt x="15543" y="16144"/>
                </a:lnTo>
                <a:lnTo>
                  <a:pt x="10390" y="16144"/>
                </a:lnTo>
                <a:lnTo>
                  <a:pt x="10390" y="15221"/>
                </a:lnTo>
                <a:lnTo>
                  <a:pt x="11678" y="15221"/>
                </a:lnTo>
                <a:lnTo>
                  <a:pt x="11678" y="9129"/>
                </a:lnTo>
                <a:lnTo>
                  <a:pt x="10390" y="9129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25BB-C9EB-43C9-9E1C-17AE07EC1A69}" type="slidenum">
              <a:t>18</a:t>
            </a:fld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8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0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77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5" dur="77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7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9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7000"/>
                            </p:stCondLst>
                            <p:childTnLst>
                              <p:par>
                                <p:cTn id="6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0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2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4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9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3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9000"/>
                            </p:stCondLst>
                            <p:childTnLst>
                              <p:par>
                                <p:cTn id="66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873000"/>
            <a:ext cx="840888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cc"/>
                </a:solidFill>
                <a:latin typeface="Arial Narrow"/>
              </a:rPr>
              <a:t>Modifier l’aperçu du tracé avec la fonction « WINDOW »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8360" y="2744640"/>
            <a:ext cx="1303200" cy="29498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808360" y="2023920"/>
            <a:ext cx="5486400" cy="2197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51280" y="2168640"/>
            <a:ext cx="1116000" cy="539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896000" y="1665360"/>
            <a:ext cx="684000" cy="539640"/>
          </a:xfrm>
          <a:prstGeom prst="line">
            <a:avLst/>
          </a:prstGeom>
          <a:ln w="5724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41720" y="4473720"/>
            <a:ext cx="3234960" cy="459720"/>
          </a:xfrm>
          <a:prstGeom prst="rect">
            <a:avLst/>
          </a:prstGeom>
          <a:noFill/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ff"/>
                </a:solidFill>
                <a:latin typeface="Times New Roman"/>
              </a:rPr>
              <a:t>L’écran suivant apparaî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948360" y="4400640"/>
          <a:ext cx="1619280" cy="24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4400640"/>
                    <a:ext cx="161928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3095640" y="504972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Il va être nécessaire de donner des valeurs correctes aux différents paramètres de cette fenêtr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000" y="4761000"/>
            <a:ext cx="360360" cy="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12000" y="4365720"/>
            <a:ext cx="1692360" cy="2492280"/>
          </a:xfrm>
          <a:prstGeom prst="rect">
            <a:avLst/>
          </a:pr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1D08-D427-475F-9714-D81AE19E3876}" type="slidenum">
              <a:t>19</a:t>
            </a:fld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8920" y="512640"/>
            <a:ext cx="75960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500" spc="-1" strike="noStrike">
                <a:solidFill>
                  <a:srgbClr val="ffffcc"/>
                </a:solidFill>
                <a:latin typeface="Arial Narrow"/>
              </a:rPr>
              <a:t>Allumez votre calculatrice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3280" y="2529000"/>
            <a:ext cx="1465200" cy="287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484360" y="2241720"/>
            <a:ext cx="36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cc"/>
                </a:solidFill>
                <a:latin typeface="Times New Roman"/>
              </a:rPr>
              <a:t>L’écran suivant apparaît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396120" y="1376280"/>
            <a:ext cx="2496960" cy="5015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07280" y="1233360"/>
            <a:ext cx="2412720" cy="20894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98920" y="3824280"/>
            <a:ext cx="35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’est le menu prin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fr-FR" sz="2800" spc="-1" strike="noStrike">
                <a:solidFill>
                  <a:srgbClr val="ff0066"/>
                </a:solidFill>
                <a:latin typeface="Times New Roman"/>
              </a:rPr>
              <a:t>MAIN MENU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906B-8052-4A3A-ADD2-1AEB7E77CEAC}" type="slidenum">
              <a:t>2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873000"/>
            <a:ext cx="840888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cc"/>
                </a:solidFill>
                <a:latin typeface="Arial Narrow"/>
              </a:rPr>
              <a:t>Résumé des fonctions de  « WINDOW »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8360" y="2744640"/>
            <a:ext cx="1303200" cy="294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7236000" y="2781360"/>
          <a:ext cx="1618920" cy="241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6000" y="2781360"/>
                    <a:ext cx="161892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7201080" y="2744640"/>
            <a:ext cx="1692000" cy="2492640"/>
          </a:xfrm>
          <a:prstGeom prst="rect">
            <a:avLst/>
          </a:pr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24360" y="2781360"/>
          <a:ext cx="3568680" cy="2435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24360" y="2781360"/>
                    <a:ext cx="3568680" cy="24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 flipV="1">
            <a:off x="3492360" y="2565000"/>
            <a:ext cx="0" cy="1042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92360" y="2565360"/>
            <a:ext cx="33480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2565360"/>
            <a:ext cx="0" cy="719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284640"/>
            <a:ext cx="6843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977080" y="3608280"/>
            <a:ext cx="0" cy="5414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77080" y="3608280"/>
            <a:ext cx="151128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00720" y="3716280"/>
            <a:ext cx="0" cy="7207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00720" y="4437000"/>
            <a:ext cx="154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948360" y="3933720"/>
            <a:ext cx="0" cy="5032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48360" y="3933720"/>
            <a:ext cx="50328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76720" y="3105000"/>
            <a:ext cx="0" cy="1729080"/>
          </a:xfrm>
          <a:prstGeom prst="line">
            <a:avLst/>
          </a:prstGeom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4834080"/>
            <a:ext cx="2232000" cy="0"/>
          </a:xfrm>
          <a:prstGeom prst="line">
            <a:avLst/>
          </a:prstGeom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308720" y="4508640"/>
            <a:ext cx="0" cy="325440"/>
          </a:xfrm>
          <a:prstGeom prst="line">
            <a:avLst/>
          </a:prstGeom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8720" y="4508640"/>
            <a:ext cx="14472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96000" y="5049720"/>
            <a:ext cx="219708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093080" y="4221000"/>
            <a:ext cx="0" cy="82872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93080" y="4221000"/>
            <a:ext cx="395280" cy="0"/>
          </a:xfrm>
          <a:prstGeom prst="line">
            <a:avLst/>
          </a:prstGeom>
          <a:ln w="381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80000" y="4581360"/>
            <a:ext cx="1297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4581360"/>
            <a:ext cx="0" cy="1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75640" y="4761000"/>
            <a:ext cx="684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03480" y="5516640"/>
            <a:ext cx="6140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Xres définit la résolution de l’affichage. La valeur par défaut est 1 et peut aller à 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Si Xres = 1 alors les fonctions sont calculées et tracées pour chaque point de l’axe des 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Si Xres = 8 alors les fonctions sont calculées et tracées tous les 8 point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71640" y="5950080"/>
            <a:ext cx="863640" cy="684000"/>
          </a:xfrm>
          <a:custGeom>
            <a:avLst/>
            <a:gdLst>
              <a:gd name="textAreaLeft" fmla="*/ 44280 w 863640"/>
              <a:gd name="textAreaRight" fmla="*/ 819360 w 86364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27270" h="21600">
                <a:moveTo>
                  <a:pt x="0" y="0"/>
                </a:moveTo>
                <a:lnTo>
                  <a:pt x="27270" y="0"/>
                </a:lnTo>
                <a:lnTo>
                  <a:pt x="27270" y="21600"/>
                </a:lnTo>
                <a:lnTo>
                  <a:pt x="0" y="21600"/>
                </a:lnTo>
                <a:close/>
              </a:path>
              <a:path fill="lightenLess" w="27270" h="21600">
                <a:moveTo>
                  <a:pt x="0" y="0"/>
                </a:moveTo>
                <a:lnTo>
                  <a:pt x="27270" y="0"/>
                </a:lnTo>
                <a:lnTo>
                  <a:pt x="25870" y="1400"/>
                </a:lnTo>
                <a:lnTo>
                  <a:pt x="1400" y="1400"/>
                </a:lnTo>
                <a:close/>
              </a:path>
              <a:path fill="darken" w="27270" h="21600">
                <a:moveTo>
                  <a:pt x="27270" y="0"/>
                </a:moveTo>
                <a:lnTo>
                  <a:pt x="27270" y="21600"/>
                </a:lnTo>
                <a:lnTo>
                  <a:pt x="25870" y="20200"/>
                </a:lnTo>
                <a:lnTo>
                  <a:pt x="25870" y="1400"/>
                </a:lnTo>
                <a:close/>
              </a:path>
              <a:path fill="darkenLess" w="27270" h="21600">
                <a:moveTo>
                  <a:pt x="27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70" y="20200"/>
                </a:lnTo>
                <a:close/>
              </a:path>
              <a:path fill="lighten" w="27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70" h="21600">
                <a:moveTo>
                  <a:pt x="13635" y="3837"/>
                </a:moveTo>
                <a:lnTo>
                  <a:pt x="16211" y="6448"/>
                </a:lnTo>
                <a:lnTo>
                  <a:pt x="16211" y="4707"/>
                </a:lnTo>
                <a:lnTo>
                  <a:pt x="17987" y="4707"/>
                </a:lnTo>
                <a:lnTo>
                  <a:pt x="17987" y="8224"/>
                </a:lnTo>
                <a:lnTo>
                  <a:pt x="20598" y="10800"/>
                </a:lnTo>
                <a:lnTo>
                  <a:pt x="18944" y="10800"/>
                </a:lnTo>
                <a:lnTo>
                  <a:pt x="18944" y="17989"/>
                </a:lnTo>
                <a:lnTo>
                  <a:pt x="8326" y="17989"/>
                </a:lnTo>
                <a:lnTo>
                  <a:pt x="8326" y="10800"/>
                </a:lnTo>
                <a:lnTo>
                  <a:pt x="6672" y="10800"/>
                </a:lnTo>
                <a:close/>
              </a:path>
              <a:path fill="darkenLess" w="27270" h="21600">
                <a:moveTo>
                  <a:pt x="16211" y="6448"/>
                </a:moveTo>
                <a:lnTo>
                  <a:pt x="16211" y="4707"/>
                </a:lnTo>
                <a:lnTo>
                  <a:pt x="17987" y="4707"/>
                </a:lnTo>
                <a:lnTo>
                  <a:pt x="17987" y="8224"/>
                </a:lnTo>
                <a:close/>
              </a:path>
              <a:path fill="darkenLess" w="27270" h="21600">
                <a:moveTo>
                  <a:pt x="12712" y="14299"/>
                </a:moveTo>
                <a:lnTo>
                  <a:pt x="14558" y="14299"/>
                </a:lnTo>
                <a:lnTo>
                  <a:pt x="14558" y="17989"/>
                </a:lnTo>
                <a:lnTo>
                  <a:pt x="18944" y="17989"/>
                </a:lnTo>
                <a:lnTo>
                  <a:pt x="18944" y="10800"/>
                </a:lnTo>
                <a:lnTo>
                  <a:pt x="8326" y="10800"/>
                </a:lnTo>
                <a:lnTo>
                  <a:pt x="8326" y="17989"/>
                </a:lnTo>
                <a:lnTo>
                  <a:pt x="12712" y="1798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927C-8039-48DE-BCCF-13AF7ABE3DD5}" type="slidenum">
              <a:t>20</a:t>
            </a:fld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000"/>
                            </p:stCondLst>
                            <p:childTnLst>
                              <p:par>
                                <p:cTn id="6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7000"/>
                            </p:stCondLst>
                            <p:childTnLst>
                              <p:par>
                                <p:cTn id="73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8500"/>
                            </p:stCondLst>
                            <p:childTnLst>
                              <p:par>
                                <p:cTn id="75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873000"/>
            <a:ext cx="840888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cc"/>
                </a:solidFill>
                <a:latin typeface="Arial Narrow"/>
              </a:rPr>
              <a:t>Modifier l’aperçu du tracé avec la fonction « ZOOM»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68360" y="2744640"/>
            <a:ext cx="1303200" cy="29498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5486400" cy="2197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076720" y="1989000"/>
            <a:ext cx="1116000" cy="540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80000" y="1592280"/>
            <a:ext cx="71640" cy="431640"/>
          </a:xfrm>
          <a:prstGeom prst="line">
            <a:avLst/>
          </a:prstGeom>
          <a:ln w="5724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65720" y="4473720"/>
            <a:ext cx="3234960" cy="459720"/>
          </a:xfrm>
          <a:prstGeom prst="rect">
            <a:avLst/>
          </a:prstGeom>
          <a:noFill/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ff"/>
                </a:solidFill>
                <a:latin typeface="Times New Roman"/>
              </a:rPr>
              <a:t>L’écran suivant apparaî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04000" y="5013360"/>
            <a:ext cx="0" cy="133200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ACF7-1F4B-407B-A24C-8437B5C6B3E5}" type="slidenum">
              <a:t>21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873000"/>
            <a:ext cx="840888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cc"/>
                </a:solidFill>
                <a:latin typeface="Arial Narrow"/>
              </a:rPr>
              <a:t>Modifier l’aperçu du tracé avec la fonction « ZOOM»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68360" y="2744640"/>
            <a:ext cx="1303200" cy="29498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3276720" y="2421000"/>
            <a:ext cx="4933800" cy="27064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132000" y="2637000"/>
            <a:ext cx="1403640" cy="792000"/>
          </a:xfrm>
          <a:prstGeom prst="ellipse">
            <a:avLst/>
          </a:prstGeom>
          <a:noFill/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71640" y="5950080"/>
            <a:ext cx="863640" cy="684000"/>
          </a:xfrm>
          <a:custGeom>
            <a:avLst/>
            <a:gdLst>
              <a:gd name="textAreaLeft" fmla="*/ 44280 w 863640"/>
              <a:gd name="textAreaRight" fmla="*/ 819360 w 86364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27270" h="21600">
                <a:moveTo>
                  <a:pt x="0" y="0"/>
                </a:moveTo>
                <a:lnTo>
                  <a:pt x="27270" y="0"/>
                </a:lnTo>
                <a:lnTo>
                  <a:pt x="27270" y="21600"/>
                </a:lnTo>
                <a:lnTo>
                  <a:pt x="0" y="21600"/>
                </a:lnTo>
                <a:close/>
              </a:path>
              <a:path fill="lightenLess" w="27270" h="21600">
                <a:moveTo>
                  <a:pt x="0" y="0"/>
                </a:moveTo>
                <a:lnTo>
                  <a:pt x="27270" y="0"/>
                </a:lnTo>
                <a:lnTo>
                  <a:pt x="25870" y="1400"/>
                </a:lnTo>
                <a:lnTo>
                  <a:pt x="1400" y="1400"/>
                </a:lnTo>
                <a:close/>
              </a:path>
              <a:path fill="darken" w="27270" h="21600">
                <a:moveTo>
                  <a:pt x="27270" y="0"/>
                </a:moveTo>
                <a:lnTo>
                  <a:pt x="27270" y="21600"/>
                </a:lnTo>
                <a:lnTo>
                  <a:pt x="25870" y="20200"/>
                </a:lnTo>
                <a:lnTo>
                  <a:pt x="25870" y="1400"/>
                </a:lnTo>
                <a:close/>
              </a:path>
              <a:path fill="darkenLess" w="27270" h="21600">
                <a:moveTo>
                  <a:pt x="27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70" y="20200"/>
                </a:lnTo>
                <a:close/>
              </a:path>
              <a:path fill="lighten" w="27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70" h="21600">
                <a:moveTo>
                  <a:pt x="13635" y="3837"/>
                </a:moveTo>
                <a:lnTo>
                  <a:pt x="16211" y="6448"/>
                </a:lnTo>
                <a:lnTo>
                  <a:pt x="16211" y="4707"/>
                </a:lnTo>
                <a:lnTo>
                  <a:pt x="17987" y="4707"/>
                </a:lnTo>
                <a:lnTo>
                  <a:pt x="17987" y="8224"/>
                </a:lnTo>
                <a:lnTo>
                  <a:pt x="20598" y="10800"/>
                </a:lnTo>
                <a:lnTo>
                  <a:pt x="18944" y="10800"/>
                </a:lnTo>
                <a:lnTo>
                  <a:pt x="18944" y="17989"/>
                </a:lnTo>
                <a:lnTo>
                  <a:pt x="8326" y="17989"/>
                </a:lnTo>
                <a:lnTo>
                  <a:pt x="8326" y="10800"/>
                </a:lnTo>
                <a:lnTo>
                  <a:pt x="6672" y="10800"/>
                </a:lnTo>
                <a:close/>
              </a:path>
              <a:path fill="darkenLess" w="27270" h="21600">
                <a:moveTo>
                  <a:pt x="16211" y="6448"/>
                </a:moveTo>
                <a:lnTo>
                  <a:pt x="16211" y="4707"/>
                </a:lnTo>
                <a:lnTo>
                  <a:pt x="17987" y="4707"/>
                </a:lnTo>
                <a:lnTo>
                  <a:pt x="17987" y="8224"/>
                </a:lnTo>
                <a:close/>
              </a:path>
              <a:path fill="darkenLess" w="27270" h="21600">
                <a:moveTo>
                  <a:pt x="12712" y="14299"/>
                </a:moveTo>
                <a:lnTo>
                  <a:pt x="14558" y="14299"/>
                </a:lnTo>
                <a:lnTo>
                  <a:pt x="14558" y="17989"/>
                </a:lnTo>
                <a:lnTo>
                  <a:pt x="18944" y="17989"/>
                </a:lnTo>
                <a:lnTo>
                  <a:pt x="18944" y="10800"/>
                </a:lnTo>
                <a:lnTo>
                  <a:pt x="8326" y="10800"/>
                </a:lnTo>
                <a:lnTo>
                  <a:pt x="8326" y="17989"/>
                </a:lnTo>
                <a:lnTo>
                  <a:pt x="12712" y="1798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AED4-83E1-4232-978B-C0278FBEF060}" type="slidenum">
              <a:t>22</a:t>
            </a:fld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68360" y="2744640"/>
            <a:ext cx="1303200" cy="29498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873000"/>
            <a:ext cx="840888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tuces d’affichag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76720" y="3897360"/>
            <a:ext cx="5486400" cy="21970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484360" y="202392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Si des problèmes d’affichage de graphe, d’axes, de grille, de coordonnées apparaissent, utilisez le menu suiv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32000" y="4869000"/>
            <a:ext cx="118764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72000" y="3897360"/>
            <a:ext cx="1187640" cy="576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7640" y="3284640"/>
            <a:ext cx="0" cy="1620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248000" y="4365720"/>
            <a:ext cx="1295640" cy="684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7C5E-1665-410F-BADE-306C770A78CC}" type="slidenum">
              <a:t>23</a:t>
            </a:fld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700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68360" y="2744640"/>
            <a:ext cx="1303200" cy="29498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873000"/>
            <a:ext cx="840888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’écran suivant apparaît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987640" y="2708280"/>
          <a:ext cx="5924520" cy="25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2708280"/>
                    <a:ext cx="5924520" cy="25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F418-02E9-4011-AEE9-8B0767AC455B}" type="slidenum">
              <a:t>24</a:t>
            </a:fld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734920" y="1628280"/>
            <a:ext cx="6095880" cy="31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200" spc="-1" strike="noStrike">
                <a:solidFill>
                  <a:srgbClr val="ffffcc"/>
                </a:solidFill>
                <a:latin typeface="Arial Narrow"/>
              </a:rPr>
              <a:t>FIN</a:t>
            </a:r>
            <a:endParaRPr b="1" lang="en-US" sz="25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7380360" y="5624640"/>
            <a:ext cx="1152360" cy="1008000"/>
          </a:xfrm>
          <a:custGeom>
            <a:avLst/>
            <a:gdLst>
              <a:gd name="textAreaLeft" fmla="*/ 65160 w 1152360"/>
              <a:gd name="textAreaRight" fmla="*/ 1087200 w 1152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837"/>
                </a:moveTo>
                <a:lnTo>
                  <a:pt x="14922" y="6448"/>
                </a:ln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lnTo>
                  <a:pt x="19309" y="10800"/>
                </a:lnTo>
                <a:lnTo>
                  <a:pt x="17655" y="10800"/>
                </a:lnTo>
                <a:lnTo>
                  <a:pt x="17655" y="17989"/>
                </a:lnTo>
                <a:lnTo>
                  <a:pt x="7037" y="17989"/>
                </a:lnTo>
                <a:lnTo>
                  <a:pt x="7037" y="10800"/>
                </a:lnTo>
                <a:lnTo>
                  <a:pt x="5383" y="10800"/>
                </a:lnTo>
                <a:close/>
              </a:path>
              <a:path fill="darkenLess" w="24692" h="21600">
                <a:moveTo>
                  <a:pt x="14922" y="6448"/>
                </a:move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close/>
              </a:path>
              <a:path fill="darkenLess" w="24692" h="21600">
                <a:moveTo>
                  <a:pt x="11424" y="14299"/>
                </a:moveTo>
                <a:lnTo>
                  <a:pt x="13269" y="14299"/>
                </a:lnTo>
                <a:lnTo>
                  <a:pt x="13269" y="17989"/>
                </a:lnTo>
                <a:lnTo>
                  <a:pt x="17655" y="17989"/>
                </a:lnTo>
                <a:lnTo>
                  <a:pt x="17655" y="10800"/>
                </a:lnTo>
                <a:lnTo>
                  <a:pt x="7037" y="10800"/>
                </a:lnTo>
                <a:lnTo>
                  <a:pt x="7037" y="17989"/>
                </a:lnTo>
                <a:lnTo>
                  <a:pt x="11424" y="1798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A92-148E-48E3-8A0C-EB65DB9546DD}" type="slidenum">
              <a:t>25</a:t>
            </a:fld>
          </a:p>
        </p:txBody>
      </p:sp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8000" y="765000"/>
            <a:ext cx="75438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500" spc="-1" strike="noStrike">
                <a:solidFill>
                  <a:srgbClr val="ffffcc"/>
                </a:solidFill>
                <a:latin typeface="Arial Narrow"/>
              </a:rPr>
              <a:t>Sélectionnez l’icône </a:t>
            </a:r>
            <a:br>
              <a:rPr sz="5500"/>
            </a:br>
            <a:r>
              <a:rPr b="1" lang="fr-FR" sz="5500" spc="-1" strike="noStrike">
                <a:solidFill>
                  <a:srgbClr val="ff0066"/>
                </a:solidFill>
                <a:latin typeface="Arial Narrow"/>
              </a:rPr>
              <a:t>GRAPH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3280" y="2529000"/>
            <a:ext cx="1465200" cy="287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68360" y="2060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cc"/>
                </a:solidFill>
                <a:latin typeface="Times New Roman"/>
              </a:rPr>
              <a:t>Grâce au pavé directi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48000" y="3500280"/>
            <a:ext cx="4573800" cy="2714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11640" y="1449360"/>
            <a:ext cx="3097440" cy="273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236000" y="1952640"/>
            <a:ext cx="1295280" cy="1085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>
            <a:off x="1655640" y="2816280"/>
            <a:ext cx="5688000" cy="11890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9F4F-18A6-4C33-BF67-248F8CB15FD9}" type="slidenum">
              <a:t>3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8000" y="47592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500" spc="-1" strike="noStrike">
                <a:solidFill>
                  <a:srgbClr val="ffffcc"/>
                </a:solidFill>
                <a:latin typeface="Arial Narrow"/>
              </a:rPr>
              <a:t>L’écran suivant apparaît: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3280" y="2529000"/>
            <a:ext cx="1465200" cy="2879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51280" y="4689360"/>
            <a:ext cx="59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00"/>
                </a:solidFill>
                <a:latin typeface="Times New Roman"/>
              </a:rPr>
              <a:t>Il reste à saisir la fonction dont on veut la représentation graphique en Y1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635280" y="1844640"/>
          <a:ext cx="3810240" cy="25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1844640"/>
                    <a:ext cx="381024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058B-30FC-4C9E-AF6D-6CBB9AB4D123}" type="slidenum">
              <a:t>4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8000" y="47592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500" spc="-1" strike="noStrike">
                <a:solidFill>
                  <a:srgbClr val="ffffcc"/>
                </a:solidFill>
                <a:latin typeface="Arial Narrow"/>
              </a:rPr>
              <a:t>Exemple: f(x) = x²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3280" y="2529000"/>
            <a:ext cx="1465200" cy="287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66920" y="486900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00"/>
                </a:solidFill>
                <a:latin typeface="Times New Roman"/>
              </a:rPr>
              <a:t>Une fois l’expression saisie, il reste à valider en appuyant sur la touche </a:t>
            </a:r>
            <a:r>
              <a:rPr b="1" lang="fr-FR" sz="3200" spc="-1" strike="noStrike">
                <a:solidFill>
                  <a:srgbClr val="ff0066"/>
                </a:solidFill>
                <a:latin typeface="Times New Roman"/>
              </a:rPr>
              <a:t>EX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5842080"/>
            <a:ext cx="1008360" cy="647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655280" y="5157720"/>
            <a:ext cx="4429080" cy="93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2133720"/>
            <a:ext cx="25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00"/>
                </a:solidFill>
                <a:latin typeface="Times New Roman"/>
              </a:rPr>
              <a:t>Saisissez l’expression de f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132000" y="4005360"/>
            <a:ext cx="1554480" cy="49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4932360" y="1989000"/>
          <a:ext cx="3924360" cy="263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989000"/>
                    <a:ext cx="392436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 flipV="1">
            <a:off x="4535640" y="2852280"/>
            <a:ext cx="1081080" cy="11890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7BE8-C5F1-47BB-8315-910C1B66549D}" type="slidenum">
              <a:t>5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2966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500" spc="-1" strike="noStrike">
                <a:solidFill>
                  <a:srgbClr val="ffff00"/>
                </a:solidFill>
                <a:latin typeface="Arial Narrow"/>
              </a:rPr>
              <a:t>Afficher le graphe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3280" y="2492280"/>
            <a:ext cx="1484280" cy="29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4211640" y="4076640"/>
          <a:ext cx="3541680" cy="18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1640" y="4076640"/>
                    <a:ext cx="354168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943280" y="1592280"/>
            <a:ext cx="72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00"/>
                </a:solidFill>
                <a:latin typeface="Times New Roman"/>
              </a:rPr>
              <a:t>Cliquez en bas de l’écran sur</a:t>
            </a: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F4</a:t>
            </a: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00"/>
                </a:solidFill>
                <a:latin typeface="Times New Roman"/>
              </a:rPr>
              <a:t>ou</a:t>
            </a: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F6</a:t>
            </a: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 (</a:t>
            </a:r>
            <a:r>
              <a:rPr b="0" i="1" lang="fr-FR" sz="1800" spc="-1" strike="noStrike">
                <a:solidFill>
                  <a:srgbClr val="00ff00"/>
                </a:solidFill>
                <a:latin typeface="Times New Roman"/>
              </a:rPr>
              <a:t>suivant le modèle</a:t>
            </a: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0" lang="fr-FR" sz="2800" spc="-1" strike="noStrike">
                <a:solidFill>
                  <a:srgbClr val="00ff00"/>
                </a:solidFill>
                <a:latin typeface="Times New Roman"/>
              </a:rPr>
              <a:t>pour activer la commande</a:t>
            </a: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99ff"/>
                </a:solidFill>
                <a:latin typeface="Times New Roman"/>
              </a:rPr>
              <a:t>DRAW</a:t>
            </a: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27280" y="2997360"/>
            <a:ext cx="55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3399ff"/>
                </a:solidFill>
                <a:latin typeface="Times New Roman"/>
              </a:rPr>
              <a:t>L’écran suivant apparaî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7B8E-BE62-43B9-B0BF-DBAB7B57B83E}" type="slidenum">
              <a:t>6</a:t>
            </a:fld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8000" y="873000"/>
            <a:ext cx="75438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500" spc="-1" strike="noStrike">
                <a:solidFill>
                  <a:srgbClr val="ffffcc"/>
                </a:solidFill>
                <a:latin typeface="Arial Narrow"/>
              </a:rPr>
              <a:t>Remarques concernant le graphe: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3280" y="2492280"/>
            <a:ext cx="1484280" cy="2916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71640" y="2133720"/>
            <a:ext cx="55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4960" indent="-439920">
              <a:lnSpc>
                <a:spcPct val="100000"/>
              </a:lnSpc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00"/>
                </a:solidFill>
                <a:latin typeface="Times New Roman"/>
              </a:rPr>
              <a:t>Aucune courbe ne s’affic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95640" y="4430880"/>
            <a:ext cx="54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00"/>
                </a:solidFill>
                <a:latin typeface="Times New Roman"/>
              </a:rPr>
              <a:t>Le graphe est « petit » par rapport à la taille de la fenê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35280" y="310500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4960" indent="-439920">
              <a:lnSpc>
                <a:spcPct val="100000"/>
              </a:lnSpc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00"/>
                </a:solidFill>
                <a:latin typeface="Times New Roman"/>
              </a:rPr>
              <a:t>Une partie du graphe seulement s’affic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2920" y="5478480"/>
            <a:ext cx="26128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66"/>
                </a:solidFill>
                <a:latin typeface="Times New Roman"/>
              </a:rPr>
              <a:t>Un problème d’afficha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5240" y="5842080"/>
            <a:ext cx="21711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800000"/>
                </a:solidFill>
                <a:uFillTx/>
                <a:latin typeface="Times New Roman"/>
                <a:hlinkClick r:id="rId2" action="ppaction://hlinksldjump"/>
              </a:rPr>
              <a:t>Cliquez ic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34B1-37F4-4E54-A2BF-5EA1B6D87EBD}" type="slidenum">
              <a:t>7</a:t>
            </a:fld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3280" y="367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cc"/>
                </a:solidFill>
                <a:latin typeface="Arial Narrow"/>
              </a:rPr>
              <a:t>Résumé</a:t>
            </a:r>
            <a:endParaRPr b="1" lang="en-US" sz="8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916360" y="1557000"/>
            <a:ext cx="5543280" cy="94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électionner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e menu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0066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6360" y="2349360"/>
            <a:ext cx="6095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trer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’expression de la fonction puis valider </a:t>
            </a:r>
            <a:r>
              <a:rPr b="1" lang="fr-FR" sz="2800" spc="-1" strike="noStrike">
                <a:solidFill>
                  <a:srgbClr val="ff0066"/>
                </a:solidFill>
                <a:latin typeface="Arial"/>
              </a:rPr>
              <a:t>EX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3284640"/>
            <a:ext cx="609588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aramétrer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 fenêtre d’affichage </a:t>
            </a:r>
            <a:r>
              <a:rPr b="1" lang="fr-FR" sz="2800" spc="-1" strike="noStrike">
                <a:solidFill>
                  <a:srgbClr val="ff0066"/>
                </a:solidFill>
                <a:latin typeface="Arial"/>
              </a:rPr>
              <a:t>V-WINDOW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si nécessair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) avec les valeurs minimales (</a:t>
            </a:r>
            <a:r>
              <a:rPr b="1" lang="fr-FR" sz="2800" spc="-1" strike="noStrike">
                <a:solidFill>
                  <a:srgbClr val="ff0066"/>
                </a:solidFill>
                <a:latin typeface="Arial"/>
              </a:rPr>
              <a:t>Xmin et Ymin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) et maximales (</a:t>
            </a:r>
            <a:r>
              <a:rPr b="1" lang="fr-FR" sz="2800" spc="-1" strike="noStrike">
                <a:solidFill>
                  <a:srgbClr val="ff0066"/>
                </a:solidFill>
                <a:latin typeface="Arial"/>
              </a:rPr>
              <a:t>Xmax et Umax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) ainsi que le pas (</a:t>
            </a:r>
            <a:r>
              <a:rPr b="1" lang="fr-FR" sz="2800" spc="-1" strike="noStrike">
                <a:solidFill>
                  <a:srgbClr val="ff0066"/>
                </a:solidFill>
                <a:latin typeface="Arial"/>
              </a:rPr>
              <a:t>ptch ou scal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68480" y="6084720"/>
            <a:ext cx="4440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électionner </a:t>
            </a:r>
            <a:r>
              <a:rPr b="1" lang="fr-FR" sz="2800" spc="-1" strike="noStrike">
                <a:solidFill>
                  <a:srgbClr val="ff0066"/>
                </a:solidFill>
                <a:latin typeface="Arial"/>
              </a:rPr>
              <a:t>DRA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31640" y="2852640"/>
            <a:ext cx="1563840" cy="307188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7632720" y="6021360"/>
            <a:ext cx="900000" cy="647640"/>
          </a:xfrm>
          <a:custGeom>
            <a:avLst/>
            <a:gdLst>
              <a:gd name="textAreaLeft" fmla="*/ 41760 w 900000"/>
              <a:gd name="textAreaRight" fmla="*/ 858240 w 900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0012" h="21600">
                <a:moveTo>
                  <a:pt x="0" y="0"/>
                </a:moveTo>
                <a:lnTo>
                  <a:pt x="30012" y="0"/>
                </a:lnTo>
                <a:lnTo>
                  <a:pt x="30012" y="21600"/>
                </a:lnTo>
                <a:lnTo>
                  <a:pt x="0" y="21600"/>
                </a:lnTo>
                <a:close/>
              </a:path>
              <a:path fill="lightenLess" w="30012" h="21600">
                <a:moveTo>
                  <a:pt x="0" y="0"/>
                </a:moveTo>
                <a:lnTo>
                  <a:pt x="30012" y="0"/>
                </a:lnTo>
                <a:lnTo>
                  <a:pt x="28612" y="1400"/>
                </a:lnTo>
                <a:lnTo>
                  <a:pt x="1400" y="1400"/>
                </a:lnTo>
                <a:close/>
              </a:path>
              <a:path fill="darken" w="30012" h="21600">
                <a:moveTo>
                  <a:pt x="30012" y="0"/>
                </a:moveTo>
                <a:lnTo>
                  <a:pt x="30012" y="21600"/>
                </a:lnTo>
                <a:lnTo>
                  <a:pt x="28612" y="20200"/>
                </a:lnTo>
                <a:lnTo>
                  <a:pt x="28612" y="1400"/>
                </a:lnTo>
                <a:close/>
              </a:path>
              <a:path fill="darkenLess" w="30012" h="21600">
                <a:moveTo>
                  <a:pt x="30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12" y="20200"/>
                </a:lnTo>
                <a:close/>
              </a:path>
              <a:path fill="lighten" w="30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12" h="21600">
                <a:moveTo>
                  <a:pt x="15006" y="3837"/>
                </a:moveTo>
                <a:lnTo>
                  <a:pt x="17582" y="6448"/>
                </a:lnTo>
                <a:lnTo>
                  <a:pt x="17582" y="4707"/>
                </a:lnTo>
                <a:lnTo>
                  <a:pt x="19358" y="4707"/>
                </a:lnTo>
                <a:lnTo>
                  <a:pt x="19358" y="8224"/>
                </a:lnTo>
                <a:lnTo>
                  <a:pt x="21969" y="10800"/>
                </a:lnTo>
                <a:lnTo>
                  <a:pt x="20315" y="10800"/>
                </a:lnTo>
                <a:lnTo>
                  <a:pt x="20315" y="17989"/>
                </a:lnTo>
                <a:lnTo>
                  <a:pt x="9697" y="17989"/>
                </a:lnTo>
                <a:lnTo>
                  <a:pt x="9697" y="10800"/>
                </a:lnTo>
                <a:lnTo>
                  <a:pt x="8043" y="10800"/>
                </a:lnTo>
                <a:close/>
              </a:path>
              <a:path fill="darkenLess" w="30012" h="21600">
                <a:moveTo>
                  <a:pt x="17582" y="6448"/>
                </a:moveTo>
                <a:lnTo>
                  <a:pt x="17582" y="4707"/>
                </a:lnTo>
                <a:lnTo>
                  <a:pt x="19358" y="4707"/>
                </a:lnTo>
                <a:lnTo>
                  <a:pt x="19358" y="8224"/>
                </a:lnTo>
                <a:close/>
              </a:path>
              <a:path fill="darkenLess" w="30012" h="21600">
                <a:moveTo>
                  <a:pt x="14083" y="14299"/>
                </a:moveTo>
                <a:lnTo>
                  <a:pt x="15929" y="14299"/>
                </a:lnTo>
                <a:lnTo>
                  <a:pt x="15929" y="17989"/>
                </a:lnTo>
                <a:lnTo>
                  <a:pt x="20315" y="17989"/>
                </a:lnTo>
                <a:lnTo>
                  <a:pt x="20315" y="10800"/>
                </a:lnTo>
                <a:lnTo>
                  <a:pt x="9697" y="10800"/>
                </a:lnTo>
                <a:lnTo>
                  <a:pt x="9697" y="17989"/>
                </a:lnTo>
                <a:lnTo>
                  <a:pt x="14083" y="1798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F79-B539-482D-8C6C-6EA3B69E4ACB}" type="slidenum">
              <a:t>8</a:t>
            </a:fld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3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8560" y="367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Problème d’affichag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23640" y="1807920"/>
            <a:ext cx="4969080" cy="54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) Le repère ne s’affiche pa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11280" y="2852640"/>
            <a:ext cx="453708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2) Le graphe apparaît partiellement ou pas du t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8720" y="476280"/>
            <a:ext cx="2521080" cy="755640"/>
          </a:xfrm>
          <a:prstGeom prst="wedgeEllipseCallout">
            <a:avLst>
              <a:gd name="adj1" fmla="val -39421"/>
              <a:gd name="adj2" fmla="val 163236"/>
            </a:avLst>
          </a:prstGeom>
          <a:solidFill>
            <a:srgbClr val="ccffcc"/>
          </a:solidFill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800000"/>
                </a:solidFill>
                <a:uFillTx/>
                <a:latin typeface="Times New Roman"/>
                <a:hlinkClick r:id="rId1" action="ppaction://hlinksldjump"/>
              </a:rPr>
              <a:t>Cliquez ici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2920" y="2168640"/>
            <a:ext cx="2521080" cy="755640"/>
          </a:xfrm>
          <a:prstGeom prst="wedgeEllipseCallout">
            <a:avLst>
              <a:gd name="adj1" fmla="val -53212"/>
              <a:gd name="adj2" fmla="val 176888"/>
            </a:avLst>
          </a:prstGeom>
          <a:solidFill>
            <a:srgbClr val="ccffcc"/>
          </a:solidFill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800000"/>
                </a:solidFill>
                <a:uFillTx/>
                <a:latin typeface="Times New Roman"/>
                <a:hlinkClick r:id="rId2" action="ppaction://hlinksldjump"/>
              </a:rPr>
              <a:t>Cliquez ici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1544760" cy="30351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4" action="ppaction://hlinksldjump"/>
          </p:cNvPr>
          <p:cNvSpPr/>
          <p:nvPr/>
        </p:nvSpPr>
        <p:spPr>
          <a:xfrm>
            <a:off x="7343640" y="5624640"/>
            <a:ext cx="1152720" cy="973080"/>
          </a:xfrm>
          <a:custGeom>
            <a:avLst/>
            <a:gdLst>
              <a:gd name="textAreaLeft" fmla="*/ 63000 w 1152720"/>
              <a:gd name="textAreaRight" fmla="*/ 1089720 w 1152720"/>
              <a:gd name="textAreaTop" fmla="*/ 63000 h 973080"/>
              <a:gd name="textAreaBottom" fmla="*/ 910080 h 973080"/>
            </a:gdLst>
            <a:ahLst/>
            <a:rect l="textAreaLeft" t="textAreaTop" r="textAreaRight" b="textAreaBottom"/>
            <a:pathLst>
              <a:path w="25586" h="21600">
                <a:moveTo>
                  <a:pt x="0" y="0"/>
                </a:moveTo>
                <a:lnTo>
                  <a:pt x="25586" y="0"/>
                </a:lnTo>
                <a:lnTo>
                  <a:pt x="25586" y="21600"/>
                </a:lnTo>
                <a:lnTo>
                  <a:pt x="0" y="21600"/>
                </a:lnTo>
                <a:close/>
              </a:path>
              <a:path fill="lightenLess" w="25586" h="21600">
                <a:moveTo>
                  <a:pt x="0" y="0"/>
                </a:moveTo>
                <a:lnTo>
                  <a:pt x="25586" y="0"/>
                </a:lnTo>
                <a:lnTo>
                  <a:pt x="24186" y="1400"/>
                </a:lnTo>
                <a:lnTo>
                  <a:pt x="1400" y="1400"/>
                </a:lnTo>
                <a:close/>
              </a:path>
              <a:path fill="darken" w="25586" h="21600">
                <a:moveTo>
                  <a:pt x="25586" y="0"/>
                </a:moveTo>
                <a:lnTo>
                  <a:pt x="25586" y="21600"/>
                </a:lnTo>
                <a:lnTo>
                  <a:pt x="24186" y="20200"/>
                </a:lnTo>
                <a:lnTo>
                  <a:pt x="24186" y="1400"/>
                </a:lnTo>
                <a:close/>
              </a:path>
              <a:path fill="darkenLess" w="25586" h="21600">
                <a:moveTo>
                  <a:pt x="25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6" y="20200"/>
                </a:lnTo>
                <a:close/>
              </a:path>
              <a:path fill="lighten" w="25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6" h="21600">
                <a:moveTo>
                  <a:pt x="12793" y="3837"/>
                </a:moveTo>
                <a:lnTo>
                  <a:pt x="15369" y="6448"/>
                </a:lnTo>
                <a:lnTo>
                  <a:pt x="15369" y="4707"/>
                </a:lnTo>
                <a:lnTo>
                  <a:pt x="17145" y="4707"/>
                </a:lnTo>
                <a:lnTo>
                  <a:pt x="17145" y="8224"/>
                </a:lnTo>
                <a:lnTo>
                  <a:pt x="19756" y="10800"/>
                </a:lnTo>
                <a:lnTo>
                  <a:pt x="18102" y="10800"/>
                </a:lnTo>
                <a:lnTo>
                  <a:pt x="18102" y="17989"/>
                </a:lnTo>
                <a:lnTo>
                  <a:pt x="7484" y="17989"/>
                </a:lnTo>
                <a:lnTo>
                  <a:pt x="7484" y="10800"/>
                </a:lnTo>
                <a:lnTo>
                  <a:pt x="5830" y="10800"/>
                </a:lnTo>
                <a:close/>
              </a:path>
              <a:path fill="darkenLess" w="25586" h="21600">
                <a:moveTo>
                  <a:pt x="15369" y="6448"/>
                </a:moveTo>
                <a:lnTo>
                  <a:pt x="15369" y="4707"/>
                </a:lnTo>
                <a:lnTo>
                  <a:pt x="17145" y="4707"/>
                </a:lnTo>
                <a:lnTo>
                  <a:pt x="17145" y="8224"/>
                </a:lnTo>
                <a:close/>
              </a:path>
              <a:path fill="darkenLess" w="25586" h="21600">
                <a:moveTo>
                  <a:pt x="11870" y="14299"/>
                </a:moveTo>
                <a:lnTo>
                  <a:pt x="13716" y="14299"/>
                </a:lnTo>
                <a:lnTo>
                  <a:pt x="13716" y="17989"/>
                </a:lnTo>
                <a:lnTo>
                  <a:pt x="18102" y="17989"/>
                </a:lnTo>
                <a:lnTo>
                  <a:pt x="18102" y="10800"/>
                </a:lnTo>
                <a:lnTo>
                  <a:pt x="7484" y="10800"/>
                </a:lnTo>
                <a:lnTo>
                  <a:pt x="7484" y="17989"/>
                </a:lnTo>
                <a:lnTo>
                  <a:pt x="11870" y="1798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4869000"/>
            <a:ext cx="4537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3) Le graphe est trop grand ou trop pet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92720" y="3968640"/>
            <a:ext cx="2521080" cy="755640"/>
          </a:xfrm>
          <a:prstGeom prst="wedgeEllipseCallout">
            <a:avLst>
              <a:gd name="adj1" fmla="val -40240"/>
              <a:gd name="adj2" fmla="val 157981"/>
            </a:avLst>
          </a:prstGeom>
          <a:solidFill>
            <a:srgbClr val="ccffcc"/>
          </a:solidFill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Times New Roman"/>
              </a:rPr>
              <a:t>Cliquez ici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88B-CC09-4F26-83D5-391179D80CA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COTTE-LE VISAGE Gwenaëlle</cp:lastModifiedBy>
  <dcterms:modified xsi:type="dcterms:W3CDTF">2005-11-11T15:52:46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2</vt:r8>
  </property>
</Properties>
</file>